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D21-82AB-431E-B64A-F157C208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02E-CA0B-45D1-9418-E017861F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D15-B8E7-427B-A532-4753B430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2E9-E455-4BBF-91F6-3FB1BF07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02D-372B-45F9-9FEA-44D3A747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12F-0288-4756-B0F8-5927C872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893-8CEB-4B92-8524-12E606B2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725-9572-4575-B3D6-E009B093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68F-1F75-4E64-AECB-1A6AC52E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47F-E2E8-4A57-A613-A95AC327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E43-D744-4479-9D29-2FCD9069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2AF-2BA8-41D3-9FD3-030A556F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D596-7184-4672-9B11-A4463CC1C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08320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28195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MULTICULTUR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486400"/>
            <a:ext cx="7696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alina G. Gomez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ga, Violeta A, Nelia Prieto G. Carreon, Myrna L. (2006) Social Dimensions of EducationManila: Lorimar Publishing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703680" cy="380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45720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Multiculturalism – is a policy that emphasizes the unique characteristics of different cultures, especially as they relate to one another in receiving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merging discipline whose aim is to create equal educational opportunities from diverse racial, ethnic, social class and cultural grou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4038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052800" cy="4190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228600"/>
            <a:ext cx="5257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ulticulturalism – is a public policy approach for managing cultural diversity in a multiethnic society, officially stressing mutual respect and tolerance for cultural differences within a country’s bo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mphasis: Unique characteristics of different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ts of Multicul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-descriptiv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ccurs where the word multicultural refers to the existence of linguistically, culturally and ethnically diverse segments in the population of a society o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deological-normativ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nstitutes a specific focus towards the management and organization of governmental responses to ethn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35268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rogrammatic-politic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fers to specific policies developed to respond and manage ethn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ultura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 emerging discipline whose aim is to create equal educational opportunities from diverse racial, ethnic, social class and cultur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0481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progressive approach for transforming education that holistically critiques and addresses current shortcomings, failings and discriminator practices i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5867280"/>
            <a:ext cx="29718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9287600">
            <a:off x="1980720" y="480024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287600">
            <a:off x="4571640" y="304776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4038480"/>
            <a:ext cx="27432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286000"/>
            <a:ext cx="32004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533520"/>
            <a:ext cx="29718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9287600">
            <a:off x="6476760" y="1295280"/>
            <a:ext cx="76176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57200"/>
            <a:ext cx="3657600" cy="155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aches to Multicultur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04920"/>
            <a:ext cx="83059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mensions to Multicultur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81080"/>
            <a:ext cx="2710080" cy="1068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3581280"/>
            <a:ext cx="2971800" cy="1556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Constru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981080"/>
            <a:ext cx="2590920" cy="1068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dic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1905120"/>
            <a:ext cx="2590560" cy="1068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Pedag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3505320"/>
            <a:ext cx="4419360" cy="1556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owering school culture and soci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0:33:07Z</dcterms:created>
  <dc:creator>riza</dc:creator>
  <dc:description/>
  <dc:language>en-US</dc:language>
  <cp:lastModifiedBy>riza</cp:lastModifiedBy>
  <dcterms:modified xsi:type="dcterms:W3CDTF">2009-09-08T11:28:47Z</dcterms:modified>
  <cp:revision>14</cp:revision>
  <dc:subject/>
  <dc:title>MULTICULTURALISM</dc:title>
</cp:coreProperties>
</file>